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2AB-1D25-4AD1-8628-4F9EDDEC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09C-CB21-43C0-953D-D173C1A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549-4C07-4BEF-B1E8-CDED9628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C17-30D5-4DDC-8031-472AB700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D6D-8E66-47EA-BC55-B05A986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B2A-86CB-4F13-8010-B2E859D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39D-5D8C-40DB-BA31-B092387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FFC-FD83-4352-8B3F-E989785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194-A750-4F8C-9E78-A8ACFA6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DCC-93A9-4753-BE3D-138B0D6E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73C-71B7-4424-87AD-49B6BD8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083-2B60-4AB0-95FB-A411A10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2371-7B15-420F-A656-D062FDBB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81680" y="0"/>
            <a:ext cx="2362320" cy="48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سيحُ قام من بين الاموات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وطىء الموت بالموت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199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وهب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الحيـــــاةَ للذيـــن فــي القبـــ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49:58Z</dcterms:created>
  <dc:creator>SUZANNE.MD</dc:creator>
  <dc:description/>
  <dc:language>en-US</dc:language>
  <cp:lastModifiedBy>HANI SAFI</cp:lastModifiedBy>
  <dcterms:modified xsi:type="dcterms:W3CDTF">2003-04-16T13:50:42Z</dcterms:modified>
  <cp:revision>2</cp:revision>
  <dc:subject/>
  <dc:title>PowerPoint Presentation</dc:title>
</cp:coreProperties>
</file>